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C2D3-C62E-433F-8EFB-DF34BD3D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0A07-CE63-48B5-B946-041B3F4B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601-0B58-441E-8785-5EB078DC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9FD9-C741-4BC7-B9B7-F48D70A0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9070-1E5A-41E3-B8FB-213CE71A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BFA-EAA7-4226-991F-75BB98B8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1B7-848C-4D91-8E75-3F30C222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630B-D594-45D7-9850-ACDDA556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AD16-39BA-4A69-8517-2162E080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9273-BDA3-4549-972C-760AAC5A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F8E-A37A-45B5-A328-486D594D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9B46-9EFF-4D7C-A7E2-CD137429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6373-2B2F-4A34-8382-9341A28F5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nalysis of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R-to-1 Matched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ase-Control D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467480" cy="838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7391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543800" cy="64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14400" y="2362320"/>
            <a:ext cx="7315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1066680" y="1371600"/>
            <a:ext cx="70106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66680" y="2438280"/>
            <a:ext cx="71629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914400" y="838080"/>
            <a:ext cx="7467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bright="-8000"/>
          </a:blip>
          <a:stretch/>
        </p:blipFill>
        <p:spPr>
          <a:xfrm>
            <a:off x="1066680" y="1143000"/>
            <a:ext cx="7315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-8000"/>
          </a:blip>
          <a:stretch/>
        </p:blipFill>
        <p:spPr>
          <a:xfrm>
            <a:off x="1066680" y="91440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990720" y="609480"/>
            <a:ext cx="7238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162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162920" cy="327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>
            <a:lum bright="2000"/>
          </a:blip>
          <a:stretch/>
        </p:blipFill>
        <p:spPr>
          <a:xfrm>
            <a:off x="1066680" y="4114800"/>
            <a:ext cx="7086600" cy="190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1066680" y="6019920"/>
            <a:ext cx="70106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cp:lastPrinted>2002-06-27T18:28:52Z</cp:lastPrinted>
  <dcterms:modified xsi:type="dcterms:W3CDTF">2002-07-02T15:13:45Z</dcterms:modified>
  <cp:revision>80</cp:revision>
  <dc:subject/>
  <dc:title>The Art in the State of the Art</dc:title>
</cp:coreProperties>
</file>